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B39-5FD1-4CBD-BC7D-5B519F93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150-EBBA-4316-8F26-B9448E4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1C5E-5A3F-46E2-A0A4-C69EBFE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3E4CF-6CE7-4833-A22E-A74E26A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2092A-495E-470B-A3C0-B5247901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710E-E351-406F-9EC6-5713508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05812-DE6F-4344-98F7-24145CF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07D9F-A89E-440F-9101-B64B7D1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41FB6-E530-49E8-AD92-6663BA3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DD81-F4FD-48EB-B672-587D259D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005F5-8AAC-4DF2-8E40-82BA38DF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7D43-74FC-478F-94DD-8735B6B2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A43-CD1E-40DC-8636-7AF4B5DE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312C-4FD5-4B76-B258-5324997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E7418-6497-4488-8E91-448F0B9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21F09-2F9E-4633-B36E-692F0FD2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FDF99-7DDD-403C-8206-36941B87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C8D7-D8C6-4318-9E45-1087E2E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20808-0334-4D2F-AE3D-F2BAC6C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F063B-9AEE-47B5-98C4-40855AB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0D092-B8EA-4A56-8D31-3D39943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06F2C-A24A-41A8-92EA-E5BDD516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263CE-9C07-4108-B2D9-C67621DF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E2D-7BFA-4255-B979-E16C5DA4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F8810-2369-4305-AE73-A35880F3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00337-107B-44BF-8A47-D756FB2B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E3E3-50DD-4775-BA50-1DEBBB0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89FF2-5906-4DBE-8B57-BFFE7EC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1C305-77DC-4AEF-9C78-7D9E359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9765F-0CD9-4602-A817-F5AB927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E1285-DEAF-4E53-8316-47606DE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A12E6-7BBE-4FF5-B6BB-87F989EF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2C9A9-46CB-44E6-8ECF-81DE152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9BF65-ED24-4A73-977F-90EB207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D68-6206-4DF3-8ED7-440BF3DC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918C-089A-4684-9BAC-0DF3DD3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9B37D-0E86-4F85-A92B-8A4A601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55077-881F-4604-9989-9BA18A10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DE5C6-66C7-4BF1-86C3-F429DFE3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A783A-EDCD-4327-B68F-07993579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E73CA-6895-4FEE-8C73-DA6B6884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56BA2-9481-4E84-AF31-16FD613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BF3E5-ECF9-42B8-BD32-DEC3864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36EE-7B52-458D-BD31-A7F5059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7B6FB-5E1F-4BCD-8D31-9E1B94D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921C-E298-4245-A11A-F75A9CEB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9FD22-7E1E-4E16-9276-5C3452E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0A8E5-5B67-4EEB-AA8D-9A49CC0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E486-877F-4BEE-8DBF-41D5C95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358B0-DD13-43D8-A643-AD9FD5E0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3DE23-8B6E-4717-A375-0DA4539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C1860-CFCA-474D-A08E-3B3E7857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4B04-7ABA-468C-B18D-BD0FAD9D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6DD51-936E-449F-90BA-15366F8E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CDD67-FC55-4076-B8F4-4227A06C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73C96-0E43-43E2-9EA1-F13A19A0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AB6B-46C6-421A-8C05-D0F2BBC1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AC5FF-A279-4D4B-8309-9399754E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2FBED-7CC7-41C7-A8B1-84EC232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052E5-182C-4986-8037-7B70234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9A0D2-FAE0-4F3F-97C0-6625A95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49FDB-5DD7-4509-842A-8D6AE468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3A7AD-05B6-496A-B34F-DBD7212F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F5490-35CD-4119-A9E7-5D818E9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384EF-6405-498C-837E-FD3298EE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6DB26-9952-48E6-BA80-8386C88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FF74A-2D2D-47C7-90AD-2AAB6CE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1B17-6F25-4EEB-8836-670526B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23E6A-F832-444E-A03E-EE7B581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B1D58-0BD7-41E6-838A-D806DE73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D81AA-82E7-472D-A23E-3E5DF76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C303D-81B9-4B55-B311-7554718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09F30-4B33-4D31-A8E1-7BE7DF6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B6BA6-A990-4104-8034-2258A4E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D98CB-E20B-4F1D-BAF9-BA01EB0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5FD94-0AC3-4C4E-A96B-0A173067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79263-B3CF-4BB8-BA91-F66C8125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F6D9C-4B52-45D1-8C48-F3C0BB51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46B7-4E03-439D-B80B-975D91D7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E5F0D-2C31-4207-AB89-2A191FC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F6881-2B24-47B8-ACFF-080D72DA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6DA93-4063-4B44-A4C9-E4706D2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0E0BC-F79C-43E6-9455-09640BF0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3EC9F-6138-4CF0-B0F3-5CEDD73C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69B06-6946-48C1-B151-076EDAB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7D12D-5C70-4530-B84E-0F8E677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3CCFC-E1E3-4D20-87DD-B7A3BC5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98807-2504-4148-B7ED-72404323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25005-B9B1-4C2C-93BD-CC0C910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BD70-876D-4017-BD9B-47C48DF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41F91-7D73-4E9A-BF10-2762E278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A1582-77EF-40CA-8C91-C4F6BD49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A6F74-82BD-4997-9590-9CBDB11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295FA-2C65-40C9-BCF2-8226E54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AD0FB-A809-4B74-AFF3-5089AC96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D203F-C41D-4AB2-9CCB-F6B9989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2BE71-AB87-4056-93E8-A9B7D09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A16F7-8A0B-4B46-BF86-77025CA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1093AC-B208-4587-99CC-F794AC6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08F0E-5FD0-4DC5-BF2C-235AC22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C48-0132-464E-9D83-1DE2D6D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96FD3-5B87-46A6-BE4A-C65B6CF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547D9-7C26-42BA-8541-8F875733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9B554-2110-4DDD-8ABF-4D9769BA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F0B-E0DD-4684-96D7-DD17D6AE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3D95-49FB-484C-BFC4-7919630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0D1-534D-487A-BDF2-00B6ADA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8307-AC0B-4540-B8A6-54E9B6FB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C970-53CD-407E-8817-A3C28CE1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173-CEB9-4B8B-8778-264D22CF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57AD-BA74-4C98-9E17-9DE079FB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E318-C26A-4B1A-A7F3-64243010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FDDB-6063-4713-A816-842620B9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004F-EAE0-4BDB-AE1F-513B72F2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C641-75BF-400D-B8B9-313B056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03F-34A1-4C8E-8DF8-BED7D8B5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109B-41CC-4097-8648-C4FA261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304D-BC6F-4846-B98A-26EC9AA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4304-2ECD-4AB2-B9BA-03C4C95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53CD-3FFD-4DD8-9372-5E47D44D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7BDB-4FB3-4465-AAE4-C4039FC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E4BB-F04B-4C79-AA35-AF940A0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95EE-BF2B-4058-9C03-EAC18B1C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791E-9FA0-423C-B731-8457F0AE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A41F-CC32-42E5-A7EC-F4C27D1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5125-B82B-43A3-8505-C2315761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264-CCFF-4409-B7B0-A82B0ED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7829-1987-4662-8F25-6148FA2A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D9BF-0F00-4D3F-A998-8865C17E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7020-142D-45BB-8E6E-8BAD854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A18C-5F21-4153-BBFF-5F4A405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C5B8-73B4-426A-BC6B-BDC2050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8B67-B5EE-4788-AA0D-251458E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D6E5-C768-4DC9-804C-7BDB4AA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E6CD-696A-4256-BE94-5839E845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BFAC-2A1B-4B1B-997F-916AB68E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5564-8266-4AA9-82B8-0334F4F5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563-DA64-49EC-B16B-5F3CBF1B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CBBB-AE11-44E5-A9A2-D76E38FB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A60F-3205-425C-AE46-F4C4A0AA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AD66A-15FF-46CB-B0CB-B673CE7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78635-C8D9-489E-A88A-276DA45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363B-8C2E-41A4-82F3-5338858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D182-3A5E-45CC-8000-DC7BD4B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554F-5E83-4CA5-95AC-38E8D98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2BCE-5B3F-4435-91B2-49E0417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7DF7-E076-429A-8B81-1131844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6914-959D-4FCA-9253-6A0C5716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0E9-CE0D-4DC7-AF4B-CA74C3D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ADE4-0CEF-426E-8D7E-8BFAB3DC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A8C9-4E08-40C0-97DC-0B41C2B9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D238-B274-4CB8-8013-AB4AE73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4623-F95D-4A23-ADD6-478FEB4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91724-0993-4BEF-A68C-33E7896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2ED4-6B09-457C-B656-4B90961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91EA-4CB6-47B3-AA9B-F950D52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3384-D99F-43C5-98CC-A7458D6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E14B-9707-4536-802C-4C4FAAE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80AD-325C-40EB-8DD5-18957CA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34C-8FC6-48A7-B187-A98E4F1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3910-8D88-483C-8886-9EB657F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21E9-42F5-4F66-88B5-2719B063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E87A-0DD1-4A35-8493-689FBC1B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BD3F-FE47-4A75-BDF8-C4324391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1851F-0330-44D2-8782-46E52CF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87DC-F423-4A22-9914-38870CD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E9F7-62B9-43EE-BBDA-45C8C49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FA18-1CA7-4E9A-86C0-77D1E09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5208-29F9-431F-AE8B-B64302A1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ABA9-7450-42E2-BA0B-D668602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365-BB2B-432B-BC89-E6AFFF9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C3D9-1F29-4FD7-9F96-264FC1F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0DED-D989-4364-A533-4E2B65E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B9903-6B6F-4024-9756-455AE5C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0942-A6CD-497F-B557-E88B524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F1452-4092-4629-A0FA-957034A0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44567-6298-4C5A-B11D-74990D16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A9D2-2ABE-4FB0-A4A8-5EA7E67E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2D861-D21F-4416-87E0-8DE7DC1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D1EB-EAB4-4C03-8D04-AB83977F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2CBAA-A996-4B64-8A62-C66537B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519-BC97-4070-8487-2962C3B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5E007-9D1B-4690-A50A-00E63EE1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B4E3-6E96-445C-BCB0-ACA86D2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CE57F-A676-47B1-8AFA-25A584B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C34E2-199A-4F79-A0F0-9A6039EC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5EF6B-12F0-44C9-99D3-0BD121F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9EA16-4D30-42D0-845A-100C2892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76E4-A00E-4D67-94B6-83C2D5EE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E9DE5-8C8D-40EC-97C5-982D7DFA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6142F-79A7-490F-A1CB-F4EA976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DA6EF-CE61-4F42-A5C8-570F91AB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365-A9DA-46A1-9A44-F33FDF189E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2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024B-DEF7-4E31-ABD0-8F539118E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396-5803-4B18-8FC5-3B8D159060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7EF-DF87-4484-BF03-8861170CFF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3A0-5993-4FB9-840F-1B521D0770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5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D64-0C00-4B3A-8642-5DDBAF3E03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0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4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4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5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7DC-411F-45F8-8B1C-F545468A5F2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2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2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75A5-799A-49E1-9494-728E8CB5DC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8BF-02A9-4E0E-9FB4-4FF090DEB1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4FB-7E5F-4E9F-8B33-B5E369DD9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BC6-68E8-4C78-8902-1EC507250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0273-400C-4975-A886-8CCD5184C9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5D8-CC02-4A3F-8ECD-925E7D6797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1B54-C1C8-48A5-AC9D-DC82AA2148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3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3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313-62A6-4862-B2D2-E76C15F804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7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31B-7736-4798-BDE9-D303DFC9D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bbd71"/>
                </a:solidFill>
                <a:latin typeface="AR HERMANN"/>
              </a:rPr>
              <a:t>Substitution Reactions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 CHRISTY"/>
              </a:rPr>
              <a:t>By : Vlad Ivankin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Substitution Reaction i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in which a hydrogen atom is replaced by another atom or group of ato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of alkanes or aromatics with halogens to produce organic  halides and hydrogen ha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 DELANEY"/>
              </a:rPr>
              <a:t>Reactants, Products, and the rest…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Reactants: Benzene (C6H6) and Chlorine gas (C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Products: Chlorobenzene (C6H5Cl) and Hydrochloric Acid (HC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Catalysts: Heat and Iron (III) Chloride (FeCl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0" y="2276640"/>
          <a:ext cx="8604360" cy="27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8604360" cy="27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4" name=""/>
          <p:cNvGraphicFramePr/>
          <p:nvPr/>
        </p:nvGraphicFramePr>
        <p:xfrm>
          <a:off x="0" y="2060640"/>
          <a:ext cx="556272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5627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Bonds Broken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4932360" y="3573360"/>
          <a:ext cx="446400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573360"/>
                    <a:ext cx="446400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nds Broken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0" y="1916280"/>
          <a:ext cx="616428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616428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2" name=""/>
          <p:cNvGraphicFramePr/>
          <p:nvPr/>
        </p:nvGraphicFramePr>
        <p:xfrm>
          <a:off x="5219640" y="2708280"/>
          <a:ext cx="43959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708280"/>
                    <a:ext cx="4395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Bonds Formed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3348000" y="1413000"/>
          <a:ext cx="52196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5219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468360" y="2852640"/>
          <a:ext cx="34923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852640"/>
                    <a:ext cx="3492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AR DARLING"/>
              </a:rPr>
              <a:t>THE END</a:t>
            </a:r>
            <a:endParaRPr b="0" lang="en-US" sz="9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2:58:07Z</dcterms:created>
  <dc:creator>Vlad Ivankine</dc:creator>
  <dc:description/>
  <dc:language>en-US</dc:language>
  <cp:lastModifiedBy>Vlad Ivankine</cp:lastModifiedBy>
  <dcterms:modified xsi:type="dcterms:W3CDTF">2010-06-11T03:48:32Z</dcterms:modified>
  <cp:revision>16</cp:revision>
  <dc:subject/>
  <dc:title>Substitution Reactions </dc:title>
</cp:coreProperties>
</file>